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F23-8913-43EF-9D96-3874AB8D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389-9D7D-437D-8A4D-BC9DFC9A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1E9-B223-47E4-9F97-08AE514B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B93-0954-4535-932C-176B76D4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C235-324E-424A-935F-2435A2F7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706D-5246-4F9E-8679-92E78F06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1E57-F4A9-491D-95ED-497D5A56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F6A6-6921-413F-93B7-A1A66A6D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07EF-02D6-4804-A9F0-05F06B40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1FEF-2E14-45D8-8A0A-88E819AB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9725-864E-43A2-A4B2-5406B812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616-1884-4AC6-BB1B-0E6F3FA9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8E86-63B5-4273-A1E0-906B914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582C-D65F-477A-A591-7C037E79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738E-EFCE-44C0-AA9A-F4657A9A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217B-CBA8-43CF-9892-51DA8208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8E9F-E389-4DF6-8E82-A3FDA56F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220-E95A-4693-9A55-1037274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3A2-EAED-4185-97EF-17500F4E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527-C98C-49B2-B21A-C435F3AF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EB8-B3D6-4FB8-8958-24B2F5E6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D67-E995-4964-B1E5-462E9DB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1B9-CF82-4E35-A8C3-5735488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9C7-8BB7-41A1-9B5C-C6201D8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0D11-DB8E-46A6-99D9-04697FD35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EF17-A4FB-47D1-B964-AC4A46E4E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un faster!!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teven Hinsh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 W/ regular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16.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. 17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19.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. 18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19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. 18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18.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. 20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20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.19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 W/ diet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15.8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. 16.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17.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.22.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20.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.18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16.3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.18.5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18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.20.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ome people pop made them slower but more often it didn’t change there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ssible cause of err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didn’t wait till the pop had gotten in there system then it wouldn’t relly effect there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ime sp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-30-11, 3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31-12, 45 min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2-11, 25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2-12, 45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6-11, 3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8-12, 8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14-11, 4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10-12, 4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3-12, 5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13-12, 80 m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6-12, 3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21-12, 40 m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17-12, 30 m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29-12, 3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6-12, 8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knowledgements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: Tristen, Caleb, Nick, Zane, Shane, Emma, Cristina, Keena, Chrys for running in my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blem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kind of pop effects your physical ability more? Regular or di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ever felt that felling after doing physical active wile you drank pop before that you feel like throwing up? And dose diet pop affect your physical ability mor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kground informat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he Health Effects of Drinking Soda - Quotes from the Experts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atural Health Ne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7 Jan. 2012. &lt;http://www.naturalnews.com/004416.html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he Dangers of Diet Soda.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et Fit Slowly — Physical Fitness That Makes S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7 Jan. 2012. &lt;http://getfitslowly.com/2008/02/12/the-dangers-of-diet-soda/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ists', 'Islamic. "Thomas P. Connelly, D.D.S.: Diet Soda and Your Teeth: A Healthy Mix?"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reaking News and Opinion on The Huffington Po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Web. 17 Jan. 2012. &lt;http://www.huffingtonpost.com/thomas-p-connelly-dds/diet-soda-teeth_b_922968.html&gt;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ypothes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that regular pops will  affect the you physical ability more, in the better a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teria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-106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testeys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6200" indent="-106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diet pops, diet Pep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6200" indent="-106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regular pops, Pep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cedu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one 1liter regular Pepsi, one 1liter diet Pe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10 te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each tester run a down back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each one drink 50 ml of regular po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steps 3-6 with diet 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riabl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pendent: dose pop effect your physical abi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ant: running down back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olled: 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 Without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17.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. 17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19.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. 21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19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.16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18.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.19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19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.18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4:39:00Z</dcterms:created>
  <dc:creator>USD376</dc:creator>
  <dc:description/>
  <dc:language>en-US</dc:language>
  <cp:lastModifiedBy>USD376</cp:lastModifiedBy>
  <dcterms:modified xsi:type="dcterms:W3CDTF">2012-03-19T14:45:16Z</dcterms:modified>
  <cp:revision>4</cp:revision>
  <dc:subject/>
  <dc:title>Run faster!!!</dc:title>
</cp:coreProperties>
</file>